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CCCC-983F-439D-986E-767DB001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1492-A443-49C6-B0A1-BCADBAD4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F85B-9FAA-4BEF-8C9A-32F5869C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F63E-6D56-49BA-92A0-DEFE5B8D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479D-B734-40EE-B9FB-8062C4DC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7ECA-541F-4D2B-BD49-DCD5604E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0E6C-1DD3-424C-84DE-3868EC2B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4CFD-9C94-4BC4-8967-D6C598F7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1F68-714C-492A-BC24-E7D70A0C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ACDF-163F-438F-9C4E-337C65D5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9599-7D09-4A61-9C1E-9225A8BD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D1DA-51B5-4D1A-8160-48EE0D27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4F7D-4CCF-41A0-8CA8-042467E9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C8BD-B074-4262-A75E-2040B350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067F-1B2D-483D-959A-7CC17167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5CF8-01D1-4F52-A263-D2E7EAE2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2FEA-100A-4A7C-97A5-CC06EA1B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FA31-B49D-4343-9B0C-65D01C14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2565-5838-4EF1-A67D-340A1367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FFC3-B279-411F-85E7-C43A05A0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39E1-1F4B-480E-BD19-54977757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4C44-3D6D-4508-850F-F42718A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F1D2-DD8F-4F75-8526-F804267E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1EE4-20DF-447E-BD1A-8117256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E1EF-6BBD-4DFB-AA0D-34BFD2E9F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D208-40A7-420B-A355-073B058D4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ТЕМАТИКА 5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75"/>
            </a:gs>
            <a:gs pos="50000">
              <a:srgbClr val="ffffff"/>
            </a:gs>
            <a:gs pos="100000">
              <a:srgbClr val="ffe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627280" y="981000"/>
            <a:ext cx="36734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ЧИСЛИТЕ   УСТНО: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2060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5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2060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9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48000" y="2060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7 + 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1989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4 + 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206064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8 + 2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4 -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4 -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 -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3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75"/>
            </a:gs>
            <a:gs pos="50000">
              <a:srgbClr val="ffffff"/>
            </a:gs>
            <a:gs pos="100000">
              <a:srgbClr val="ffe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981000"/>
            <a:ext cx="36734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ЧИСЛИТЕ   УСТНО: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3564000" y="22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х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234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х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4000" y="22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 х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22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х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234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х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9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3 :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39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 :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39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4 :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39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5 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9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2 :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75"/>
            </a:gs>
            <a:gs pos="50000">
              <a:srgbClr val="ffffff"/>
            </a:gs>
            <a:gs pos="100000">
              <a:srgbClr val="ffe57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050920" y="981000"/>
            <a:ext cx="51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ЧИСЛИТЕ   УСТНО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ОБЪЯСНИТЕ   ПРИЕМ   ВЫЧИСЛЕНИЯ: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2781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) 540 :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4653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) 1428 :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92720" y="2708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400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4581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) 601 х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deb"/>
            </a:gs>
            <a:gs pos="50000">
              <a:srgbClr val="ffffff"/>
            </a:gs>
            <a:gs pos="100000">
              <a:srgbClr val="ffbde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556000" y="76500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ЧИТАЙТЕ   ЗАПИСИ: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1989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lt; 37 &lt; 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12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lt; 248 &lt;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400536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10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lt; 1054 &lt; 15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501336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) 234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lt; 3675 &lt; 37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050920" y="620640"/>
            <a:ext cx="532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ое   число   получится   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 конце   цепочки?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2276640"/>
            <a:ext cx="1440000" cy="13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133720"/>
            <a:ext cx="144000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775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2997360"/>
            <a:ext cx="1439640" cy="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2133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19640" y="2997360"/>
            <a:ext cx="1584360" cy="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2205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48360" y="2276640"/>
            <a:ext cx="1440000" cy="13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4508640"/>
            <a:ext cx="1440000" cy="13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278a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4508640"/>
            <a:ext cx="1440000" cy="13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4508640"/>
            <a:ext cx="1440000" cy="143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92360" y="5229360"/>
            <a:ext cx="1584360" cy="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195280" y="5157720"/>
            <a:ext cx="1368360" cy="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3645000"/>
            <a:ext cx="0" cy="647640"/>
          </a:xfrm>
          <a:prstGeom prst="line">
            <a:avLst/>
          </a:prstGeom>
          <a:ln w="475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67640" y="357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51640" y="407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4149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71640" y="692280"/>
            <a:ext cx="71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Какую координату имеет каждая из точек А,В, С и Д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71640" y="1916280"/>
            <a:ext cx="7488000" cy="2084040"/>
            <a:chOff x="971640" y="1916280"/>
            <a:chExt cx="7488000" cy="2084040"/>
          </a:xfrm>
        </p:grpSpPr>
        <p:grpSp>
          <p:nvGrpSpPr>
            <p:cNvPr id="158" name=""/>
            <p:cNvGrpSpPr/>
            <p:nvPr/>
          </p:nvGrpSpPr>
          <p:grpSpPr>
            <a:xfrm>
              <a:off x="1187280" y="2637000"/>
              <a:ext cx="7272360" cy="647640"/>
              <a:chOff x="1187280" y="2637000"/>
              <a:chExt cx="7272360" cy="6476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1187280" y="2637000"/>
                <a:ext cx="7272360" cy="358560"/>
                <a:chOff x="1187280" y="2637000"/>
                <a:chExt cx="7272360" cy="358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332000" y="2852640"/>
                  <a:ext cx="7127640" cy="0"/>
                </a:xfrm>
                <a:prstGeom prst="line">
                  <a:avLst/>
                </a:prstGeom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187280" y="2779560"/>
                  <a:ext cx="144720" cy="144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35280" y="2637000"/>
                  <a:ext cx="0" cy="35856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64360" y="2637000"/>
                  <a:ext cx="0" cy="35856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1260360" y="3284640"/>
                <a:ext cx="2376720" cy="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08360" y="3284640"/>
                <a:ext cx="3529080" cy="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971640" y="328464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4720" y="19162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48000" y="19162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77080" y="19162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79640" y="335772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1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1080" y="335772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2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900000" y="4365720"/>
            <a:ext cx="7630920" cy="2298240"/>
            <a:chOff x="900000" y="4365720"/>
            <a:chExt cx="7630920" cy="2298240"/>
          </a:xfrm>
        </p:grpSpPr>
        <p:sp>
          <p:nvSpPr>
            <p:cNvPr id="173" name=""/>
            <p:cNvSpPr/>
            <p:nvPr/>
          </p:nvSpPr>
          <p:spPr>
            <a:xfrm>
              <a:off x="5508360" y="59500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2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50920" y="59500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1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00000" y="60213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2920" y="43657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48000" y="43657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24720" y="443700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1042920" y="5157720"/>
              <a:ext cx="7488000" cy="647640"/>
              <a:chOff x="1042920" y="5157720"/>
              <a:chExt cx="7488000" cy="647640"/>
            </a:xfrm>
          </p:grpSpPr>
          <p:sp>
            <p:nvSpPr>
              <p:cNvPr id="180" name=""/>
              <p:cNvSpPr/>
              <p:nvPr/>
            </p:nvSpPr>
            <p:spPr>
              <a:xfrm>
                <a:off x="1042920" y="5445000"/>
                <a:ext cx="7488000" cy="0"/>
              </a:xfrm>
              <a:prstGeom prst="line">
                <a:avLst/>
              </a:prstGeom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58560" y="5157720"/>
                <a:ext cx="0" cy="5047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3640" y="5157720"/>
                <a:ext cx="0" cy="5047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12000" y="5229360"/>
                <a:ext cx="0" cy="5047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31640" y="5805360"/>
                <a:ext cx="2159280" cy="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35280" y="5805360"/>
                <a:ext cx="4176720" cy="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7:08:29Z</dcterms:created>
  <dc:creator>KRASTD</dc:creator>
  <dc:description/>
  <dc:language>en-US</dc:language>
  <cp:lastModifiedBy>Sergey Krasovsky</cp:lastModifiedBy>
  <dcterms:modified xsi:type="dcterms:W3CDTF">2006-09-25T10:28:17Z</dcterms:modified>
  <cp:revision>15</cp:revision>
  <dc:subject/>
  <dc:title>МАТЕМАТИКА 5 КЛАСС</dc:title>
</cp:coreProperties>
</file>