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15.gif" ContentType="image/gif"/>
  <Override PartName="/ppt/media/image56.jpeg" ContentType="image/jpeg"/>
  <Override PartName="/ppt/media/image50.gif" ContentType="image/gif"/>
  <Override PartName="/ppt/media/image10.wmf" ContentType="image/x-wmf"/>
  <Override PartName="/ppt/media/image53.png" ContentType="image/png"/>
  <Override PartName="/ppt/media/image28.wmf" ContentType="image/x-wmf"/>
  <Override PartName="/ppt/media/image37.jpeg" ContentType="image/jpeg"/>
  <Override PartName="/ppt/media/image33.wmf" ContentType="image/x-wmf"/>
  <Override PartName="/ppt/media/image52.jpeg" ContentType="image/jpeg"/>
  <Override PartName="/ppt/media/image3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5.jpeg" ContentType="image/jpeg"/>
  <Override PartName="/ppt/media/image1.jpeg" ContentType="image/jpeg"/>
  <Override PartName="/ppt/media/image29.gif" ContentType="image/gif"/>
  <Override PartName="/ppt/media/image25.wmf" ContentType="image/x-wmf"/>
  <Override PartName="/ppt/media/image65.gif" ContentType="image/gif"/>
  <Override PartName="/ppt/media/image61.wmf" ContentType="image/x-wmf"/>
  <Override PartName="/ppt/media/image19.wmf" ContentType="image/x-wmf"/>
  <Override PartName="/ppt/media/image5.wmf" ContentType="image/x-wmf"/>
  <Override PartName="/ppt/media/image17.wmf" ContentType="image/x-wmf"/>
  <Override PartName="/ppt/media/image55.jpeg" ContentType="image/jpeg"/>
  <Override PartName="/ppt/media/image63.wmf" ContentType="image/x-wmf"/>
  <Override PartName="/ppt/media/image23.png" ContentType="image/png"/>
  <Override PartName="/ppt/media/image26.wmf" ContentType="image/x-wmf"/>
  <Override PartName="/ppt/media/image66.jpeg" ContentType="image/jpeg"/>
  <Override PartName="/ppt/media/image11.png" ContentType="image/png"/>
  <Override PartName="/ppt/media/image51.wmf" ContentType="image/x-wmf"/>
  <Override PartName="/ppt/media/image64.wmf" ContentType="image/x-wmf"/>
  <Override PartName="/ppt/media/image24.png" ContentType="image/png"/>
  <Override PartName="/ppt/media/image27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36.jpeg" ContentType="image/jpeg"/>
  <Override PartName="/ppt/media/image48.wmf" ContentType="image/x-wmf"/>
  <Override PartName="/ppt/media/image31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62.jpeg" ContentType="image/jpeg"/>
  <Override PartName="/ppt/media/image41.wmf" ContentType="image/x-wmf"/>
  <Override PartName="/ppt/media/image7.jpeg" ContentType="image/jpeg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30.wmf" ContentType="image/x-wmf"/>
  <Override PartName="/ppt/media/image58.wmf" ContentType="image/x-wmf"/>
  <Override PartName="/ppt/media/image34.jpeg" ContentType="image/jpeg"/>
  <Override PartName="/ppt/media/image38.wmf" ContentType="image/x-wmf"/>
  <Override PartName="/ppt/media/image8.png" ContentType="image/png"/>
  <Override PartName="/ppt/media/image42.wmf" ContentType="image/x-wmf"/>
  <Override PartName="/ppt/media/image43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20.wmf" ContentType="image/x-wmf"/>
  <Override PartName="/ppt/media/image57.jpeg" ContentType="image/jpeg"/>
  <Override PartName="/ppt/media/image5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DAC-1F88-4920-8457-005E42B4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3BE-CCE4-4450-8F33-B403DCC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0CF-8318-4AFD-AB81-8B619ABC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B5E-8838-4C32-9CED-FD1A56F0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BE8-AA33-48A9-8205-68449D57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9A5-53A7-49D9-BEE4-23C8DC1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900-8D19-4CEF-9D4F-955A1F8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81A-6BEA-43A4-92C9-2E0432C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674-42BA-4E01-9E74-4F78318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34C-1605-46D2-B576-F091463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688-0372-41EF-A0D9-8176AFB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97E-B431-4A80-A482-F6265A3B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C915-E90E-489E-A610-C5A5E146B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gif"/><Relationship Id="rId3" Type="http://schemas.openxmlformats.org/officeDocument/2006/relationships/image" Target="../media/image49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5640" y="476280"/>
            <a:ext cx="7632720" cy="5616720"/>
            <a:chOff x="755640" y="476280"/>
            <a:chExt cx="7632720" cy="5616720"/>
          </a:xfrm>
        </p:grpSpPr>
        <p:sp>
          <p:nvSpPr>
            <p:cNvPr id="42" name=""/>
            <p:cNvSpPr txBox="1"/>
            <p:nvPr/>
          </p:nvSpPr>
          <p:spPr>
            <a:xfrm>
              <a:off x="3203280" y="3067200"/>
              <a:ext cx="4176720" cy="15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5000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БУСЫ</a:t>
              </a:r>
              <a:endPara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55640" y="476280"/>
              <a:ext cx="2735280" cy="2196720"/>
              <a:chOff x="755640" y="476280"/>
              <a:chExt cx="2735280" cy="219672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9960" y="945360"/>
                <a:ext cx="249912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 txBox="1"/>
              <p:nvPr/>
            </p:nvSpPr>
            <p:spPr>
              <a:xfrm>
                <a:off x="755640" y="476280"/>
                <a:ext cx="2735280" cy="8960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8200"/>
                        </a:gs>
                        <a:gs pos="5000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ЧТО? ГДЕ? КОГДА?</a:t>
                </a:r>
                <a:endParaRPr b="1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5000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7235640" y="5300640"/>
              <a:ext cx="952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TDK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9640" y="5084640"/>
              <a:ext cx="1368720" cy="1008360"/>
            </a:xfrm>
            <a:prstGeom prst="ellipse">
              <a:avLst/>
            </a:prstGeom>
            <a:noFill/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2376360" cy="2254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 rot="21211200">
            <a:off x="6156000" y="1341360"/>
            <a:ext cx="2809800" cy="1712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059280" y="260280"/>
            <a:ext cx="263340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148360" y="4365720"/>
            <a:ext cx="2303280" cy="177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195640" y="47628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32360" y="260280"/>
            <a:ext cx="720720" cy="360360"/>
            <a:chOff x="4932360" y="260280"/>
            <a:chExt cx="720720" cy="360360"/>
          </a:xfrm>
        </p:grpSpPr>
        <p:sp>
          <p:nvSpPr>
            <p:cNvPr id="111" name=""/>
            <p:cNvSpPr txBox="1"/>
            <p:nvPr/>
          </p:nvSpPr>
          <p:spPr>
            <a:xfrm>
              <a:off x="4932360" y="260280"/>
              <a:ext cx="144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220000" y="260280"/>
              <a:ext cx="144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508720" y="260280"/>
              <a:ext cx="144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6443640" y="299736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101080" y="907920"/>
            <a:ext cx="720720" cy="360360"/>
            <a:chOff x="8101080" y="907920"/>
            <a:chExt cx="720720" cy="360360"/>
          </a:xfrm>
        </p:grpSpPr>
        <p:sp>
          <p:nvSpPr>
            <p:cNvPr id="116" name=""/>
            <p:cNvSpPr txBox="1"/>
            <p:nvPr/>
          </p:nvSpPr>
          <p:spPr>
            <a:xfrm>
              <a:off x="8101080" y="907920"/>
              <a:ext cx="144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8388720" y="907920"/>
              <a:ext cx="144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8677440" y="907920"/>
              <a:ext cx="144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48360" y="4005360"/>
            <a:ext cx="1297080" cy="360360"/>
            <a:chOff x="6948360" y="4005360"/>
            <a:chExt cx="1297080" cy="360360"/>
          </a:xfrm>
        </p:grpSpPr>
        <p:grpSp>
          <p:nvGrpSpPr>
            <p:cNvPr id="120" name=""/>
            <p:cNvGrpSpPr/>
            <p:nvPr/>
          </p:nvGrpSpPr>
          <p:grpSpPr>
            <a:xfrm>
              <a:off x="6948360" y="4005360"/>
              <a:ext cx="720720" cy="360360"/>
              <a:chOff x="6948360" y="4005360"/>
              <a:chExt cx="720720" cy="360360"/>
            </a:xfrm>
          </p:grpSpPr>
          <p:sp>
            <p:nvSpPr>
              <p:cNvPr id="121" name=""/>
              <p:cNvSpPr txBox="1"/>
              <p:nvPr/>
            </p:nvSpPr>
            <p:spPr>
              <a:xfrm>
                <a:off x="6948360" y="4005360"/>
                <a:ext cx="14472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7236000" y="4005360"/>
                <a:ext cx="1443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7524720" y="4005360"/>
                <a:ext cx="1443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24" name=""/>
            <p:cNvSpPr txBox="1"/>
            <p:nvPr/>
          </p:nvSpPr>
          <p:spPr>
            <a:xfrm>
              <a:off x="8100720" y="4005360"/>
              <a:ext cx="144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7812000" y="4005360"/>
              <a:ext cx="144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1403280" y="4724280"/>
            <a:ext cx="30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КОЛОБОК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808360" cy="2692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32000" y="5025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читай имя сказочного персонаж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28083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3492360" y="1773360"/>
            <a:ext cx="2448000" cy="1430280"/>
            <a:chOff x="3492360" y="1773360"/>
            <a:chExt cx="2448000" cy="143028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3492360" y="2133720"/>
              <a:ext cx="2448000" cy="10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779640" y="177336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АРКИ РОСС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3203640" y="522936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БУРАТИНО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fa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71640" y="3141720"/>
            <a:ext cx="417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ШАРАД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5280" y="692280"/>
            <a:ext cx="2664000" cy="2160000"/>
            <a:chOff x="395280" y="692280"/>
            <a:chExt cx="2664000" cy="21600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87080" y="1153440"/>
              <a:ext cx="2433960" cy="16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395280" y="692280"/>
              <a:ext cx="2664000" cy="88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5000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ТО? ГДЕ? КОГДА?</a:t>
              </a:r>
              <a:endPara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8360" y="260280"/>
            <a:ext cx="5399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иноним к слову бы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известен всем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прибавь мне букву К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я козляток съ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132000" y="5950080"/>
            <a:ext cx="29527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 - ВОЛ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43131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ffffff"/>
            </a:gs>
            <a:gs pos="100000">
              <a:srgbClr val="b6faa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266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глубока и полноводн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ся страна гордится мно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впереди ты И прибавишь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тану птицей я л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71280" y="6165360"/>
            <a:ext cx="324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ОЛГА - ИВОЛ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392720" cy="32274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26436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буквой Л в игре в футбо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 слышим слово . . . 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Д уж в слове смысл не тот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ой стало - просто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0" y="5445000"/>
            <a:ext cx="2674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Л -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15889" b="3301"/>
          <a:stretch/>
        </p:blipFill>
        <p:spPr>
          <a:xfrm>
            <a:off x="755640" y="2984400"/>
            <a:ext cx="1944720" cy="152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2952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ff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16360" y="5516640"/>
            <a:ext cx="3381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ДАЧА - ЗАДАЧ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7775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рва назови ты за городом дом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тором лишь летом с семьею живем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буквы к названью приставь заодно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тся то, что решать сужд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2803320" cy="2573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65320" y="2492280"/>
            <a:ext cx="26668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89ef"/>
            </a:gs>
            <a:gs pos="50000">
              <a:srgbClr val="ffffff"/>
            </a:gs>
            <a:gs pos="100000">
              <a:srgbClr val="9c89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54936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ло - нота. Потом оленя украшени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вместе - место оживленного дви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5589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 -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1257120" cy="198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flipH="1">
            <a:off x="4859280" y="1700280"/>
            <a:ext cx="2835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08000" y="692280"/>
            <a:ext cx="54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 бываю золотой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природный - костяной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З на К заменишь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мысл во мне совсем иной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первом классе лишь для сче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уроке я твоем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в четвертом ты охотно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считаешь мой объ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ЗУБ - КУ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173240" cy="1511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59640" y="3573360"/>
            <a:ext cx="1873080" cy="1800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8b049"/>
              </a:gs>
              <a:gs pos="100000">
                <a:srgbClr val="fc9fc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c89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56000" y="26028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травянистое растен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цветком сиреневого цвет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переставьте ударение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ревращусь в конфету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5805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Ирис - ир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2901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3456000" cy="209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219480" cy="335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708360" y="98100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5516640"/>
            <a:ext cx="28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ЕБУСЫ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4200" y="547200"/>
            <a:ext cx="49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всех - и взрослых и детей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асы досуга развлекаем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если нам приставить Т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их ужасно напуг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5589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ИГРЫ - ТИГ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59640" y="981000"/>
            <a:ext cx="2014560" cy="2282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2639880" cy="1884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24360" y="2852640"/>
            <a:ext cx="2313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ff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32320" y="404280"/>
            <a:ext cx="441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буквой К живу в лес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буквой Ч овец па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59500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БАН - Ч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7957" t="0" r="31105" b="23528"/>
          <a:stretch/>
        </p:blipFill>
        <p:spPr>
          <a:xfrm>
            <a:off x="5003640" y="1557360"/>
            <a:ext cx="3497400" cy="3938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2101" t="0" r="2429" b="0"/>
          <a:stretch/>
        </p:blipFill>
        <p:spPr>
          <a:xfrm>
            <a:off x="395280" y="1484280"/>
            <a:ext cx="3240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51280" y="587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1496" t="23468" r="0" b="9283"/>
          <a:stretch/>
        </p:blipFill>
        <p:spPr>
          <a:xfrm>
            <a:off x="4572000" y="260280"/>
            <a:ext cx="4352760" cy="4969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0920" y="18900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емлют два предлог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оло порога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у -что тишь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не пикнет даже мы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1846" t="6579" r="29229" b="5331"/>
          <a:stretch/>
        </p:blipFill>
        <p:spPr>
          <a:xfrm>
            <a:off x="826920" y="270828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42920" y="404640"/>
            <a:ext cx="47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К я в школе на стене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ы, реки есть на мн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П от вас не утаю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же в школе 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365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ТА - П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514600" cy="2259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9084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42920" y="549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глухим согласным наливаюсь в поле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 звонким - сам звеню я на раздол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5516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ЛОС - 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2388960" cy="244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232000" cy="1865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92720" y="2565360"/>
            <a:ext cx="115884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ff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87280" y="333360"/>
            <a:ext cx="69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цвет одинаковый часто имею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 Г зеленею, и с К зеленею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с К вам со мною рискованно бы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гу и до слез довести, и уб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36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УГ -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24360" y="2349360"/>
            <a:ext cx="4881600" cy="3237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25545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fa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95640" y="69228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Л я слезы вызываю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Ж по воздуху лет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64000" y="5877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К - 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349360" cy="2813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8651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4360" y="40464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ня найдешь на дерев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лумбе и на грядк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журнале и в альбом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 книге и в тетрадке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птицей стать я захотел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мне не надо буквы Л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 А в начале напиш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как зовут меня - реш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551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СТ -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 flipH="1">
            <a:off x="5076720" y="260280"/>
            <a:ext cx="3600720" cy="322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302400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75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765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буквой Н я по ночам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ебесах гуляю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буквой П частенько вам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еть помог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580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НА - 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24360" y="836640"/>
            <a:ext cx="785880" cy="863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633680" cy="1655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78588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56000" y="2708280"/>
            <a:ext cx="3278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24000" y="549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Ы мы мчим вас что есть мочи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У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5805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ЫЖИ - ЛУ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2635" t="18879" r="4166" b="3628"/>
          <a:stretch/>
        </p:blipFill>
        <p:spPr>
          <a:xfrm>
            <a:off x="5140440" y="1413000"/>
            <a:ext cx="3441600" cy="403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rcRect l="0" t="0" r="1748" b="3897"/>
          <a:stretch/>
        </p:blipFill>
        <p:spPr>
          <a:xfrm>
            <a:off x="755640" y="2349360"/>
            <a:ext cx="3456000" cy="24591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9920" t="0" r="22379" b="0"/>
          <a:stretch/>
        </p:blipFill>
        <p:spPr>
          <a:xfrm>
            <a:off x="1403280" y="1989000"/>
            <a:ext cx="2087640" cy="257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flipH="1">
            <a:off x="5364000" y="1125360"/>
            <a:ext cx="2887920" cy="320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708360" y="134136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,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5589720"/>
            <a:ext cx="28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РОЗ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9640" y="404640"/>
            <a:ext cx="5256360" cy="36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ебе очень высоко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ыпь звезд, как молоко. Ко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ысь проворна и храбр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 нее не жди добра. Бр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 в стихах оставил след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жите мне отве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5157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15973" t="5100" r="7174" b="6271"/>
          <a:stretch/>
        </p:blipFill>
        <p:spPr>
          <a:xfrm>
            <a:off x="4932360" y="2276640"/>
            <a:ext cx="3816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0920" y="765000"/>
            <a:ext cx="4249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ь мала я, но взгляни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ь мир в себе отражаю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К на Ц перемени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по болоту зашаг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4149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ПЛЯ - ЦАП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631" t="1801" r="4231" b="2278"/>
          <a:stretch/>
        </p:blipFill>
        <p:spPr>
          <a:xfrm>
            <a:off x="4427640" y="476280"/>
            <a:ext cx="4503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40464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буквой М - сладкая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буквой К - горь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877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ЛИНА - К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44720" cy="1498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6192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971640" y="1989000"/>
            <a:ext cx="61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у ты решишь свободно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небольшая часть лица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прочитай меня с конца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мне увидишь что уго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558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с - 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ff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26028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пышно красуюсь на клумбе в сад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хочешь - поставь меня в вазу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 буквою К в огород я пойд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если капусту на грядке найд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пусте достанется с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ОЗА -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3795" t="2254" r="3795" b="4913"/>
          <a:stretch/>
        </p:blipFill>
        <p:spPr>
          <a:xfrm>
            <a:off x="1908000" y="2421000"/>
            <a:ext cx="4248360" cy="3379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19857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ffffff"/>
            </a:gs>
            <a:gs pos="100000">
              <a:srgbClr val="b6f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360" y="981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У - ползучий, с Ж - колю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587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Ж - Ё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04000" y="1125360"/>
            <a:ext cx="1521000" cy="1756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10920" t="2859" r="2373" b="4325"/>
          <a:stretch/>
        </p:blipFill>
        <p:spPr>
          <a:xfrm>
            <a:off x="900000" y="1773360"/>
            <a:ext cx="56880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a8df"/>
            </a:gs>
            <a:gs pos="50000">
              <a:srgbClr val="ffffff"/>
            </a:gs>
            <a:gs pos="100000">
              <a:srgbClr val="6ba8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5280" y="620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Ю я по воде скольжу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с Я на голове си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2360" y="5877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ЛЮПКА - ШЛЯ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893600" cy="1989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708360" y="2276640"/>
            <a:ext cx="2494080" cy="2663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258920" y="3933720"/>
            <a:ext cx="1400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5937" t="2840" r="3468" b="1970"/>
          <a:stretch/>
        </p:blipFill>
        <p:spPr>
          <a:xfrm>
            <a:off x="2917800" y="477720"/>
            <a:ext cx="3576600" cy="4822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36" name=""/>
          <p:cNvSpPr txBox="1"/>
          <p:nvPr/>
        </p:nvSpPr>
        <p:spPr>
          <a:xfrm>
            <a:off x="2627280" y="4869000"/>
            <a:ext cx="417672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О ВСТРЕЧИ 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00000" y="1557360"/>
            <a:ext cx="22640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2349360"/>
            <a:ext cx="79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3241440" cy="297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58167" t="45111" r="23711" b="27179"/>
          <a:stretch/>
        </p:blipFill>
        <p:spPr>
          <a:xfrm>
            <a:off x="6948360" y="2205000"/>
            <a:ext cx="172404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227640" y="1413000"/>
            <a:ext cx="720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532720" y="1341360"/>
            <a:ext cx="216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92360" y="5373720"/>
            <a:ext cx="28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ОЗДУХ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125748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2158920" cy="174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56000" y="1052640"/>
            <a:ext cx="2808360" cy="2579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740720" y="1989000"/>
            <a:ext cx="79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48000" y="494172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ОЖДЬ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59640" y="40464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64000" y="47628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flipH="1">
            <a:off x="755280" y="1125360"/>
            <a:ext cx="2241720" cy="324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356000" y="1628640"/>
            <a:ext cx="172872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36000" y="1700280"/>
            <a:ext cx="12236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63640" y="1197000"/>
            <a:ext cx="3816360" cy="338436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35280" y="5300640"/>
            <a:ext cx="2087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Е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03640" y="5157720"/>
            <a:ext cx="28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ОДОПАД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125360"/>
            <a:ext cx="151272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920" y="1916280"/>
            <a:ext cx="64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025720" cy="3095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771640" y="981000"/>
            <a:ext cx="3603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76720" y="981000"/>
            <a:ext cx="3603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0" y="981000"/>
            <a:ext cx="3603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2808360" cy="2579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532720" y="1052640"/>
            <a:ext cx="3603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956720" y="1052640"/>
            <a:ext cx="3603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58920" y="1268280"/>
            <a:ext cx="1224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16360" y="1268280"/>
            <a:ext cx="1224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033720" cy="264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588000" y="765000"/>
            <a:ext cx="72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59280" y="494172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ОТОП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faa4"/>
            </a:gs>
            <a:gs pos="50000">
              <a:srgbClr val="ffffff"/>
            </a:gs>
            <a:gs pos="100000">
              <a:srgbClr val="b6faa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1452600" cy="266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77080" y="3141720"/>
            <a:ext cx="1768320" cy="2316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627280" y="333360"/>
            <a:ext cx="4032360" cy="30081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547640" y="3357720"/>
            <a:ext cx="863280" cy="461880"/>
            <a:chOff x="1547640" y="3357720"/>
            <a:chExt cx="863280" cy="461880"/>
          </a:xfrm>
        </p:grpSpPr>
        <p:sp>
          <p:nvSpPr>
            <p:cNvPr id="94" name=""/>
            <p:cNvSpPr txBox="1"/>
            <p:nvPr/>
          </p:nvSpPr>
          <p:spPr>
            <a:xfrm>
              <a:off x="1835280" y="3357720"/>
              <a:ext cx="287640" cy="4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547640" y="3357720"/>
              <a:ext cx="287640" cy="4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2123280" y="3357720"/>
              <a:ext cx="287640" cy="4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2124000" y="333360"/>
            <a:ext cx="287280" cy="2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877080" y="333360"/>
            <a:ext cx="647280" cy="318960"/>
            <a:chOff x="6877080" y="333360"/>
            <a:chExt cx="647280" cy="318960"/>
          </a:xfrm>
        </p:grpSpPr>
        <p:sp>
          <p:nvSpPr>
            <p:cNvPr id="99" name=""/>
            <p:cNvSpPr txBox="1"/>
            <p:nvPr/>
          </p:nvSpPr>
          <p:spPr>
            <a:xfrm>
              <a:off x="6877080" y="333360"/>
              <a:ext cx="287280" cy="3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7237080" y="333360"/>
              <a:ext cx="287280" cy="3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227640" y="5373720"/>
            <a:ext cx="432000" cy="388800"/>
            <a:chOff x="6227640" y="5373720"/>
            <a:chExt cx="432000" cy="388800"/>
          </a:xfrm>
        </p:grpSpPr>
        <p:sp>
          <p:nvSpPr>
            <p:cNvPr id="102" name=""/>
            <p:cNvSpPr txBox="1"/>
            <p:nvPr/>
          </p:nvSpPr>
          <p:spPr>
            <a:xfrm>
              <a:off x="6227640" y="5373720"/>
              <a:ext cx="217440" cy="38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6516720" y="5373720"/>
              <a:ext cx="142920" cy="38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2627280" y="515772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ЕРЕМОК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3:40Z</dcterms:created>
  <dc:creator>Тамара К</dc:creator>
  <dc:description/>
  <dc:language>en-US</dc:language>
  <cp:lastModifiedBy>Tamara Dm.</cp:lastModifiedBy>
  <dcterms:modified xsi:type="dcterms:W3CDTF">2009-05-27T11:01:23Z</dcterms:modified>
  <cp:revision>46</cp:revision>
  <dc:subject/>
  <dc:title>Слайд 1</dc:title>
</cp:coreProperties>
</file>