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F90-03BF-4B21-891F-68DAA1A2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385-A823-43B1-A02D-03921A1B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91A-65C5-42F5-92F1-59203EDE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D33-3AB6-42BA-AA4A-79B5038D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C07-F1AE-427C-8A78-777E631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155-9A93-4A96-A7FE-2478D8E9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44D-816E-46F3-93C2-69820891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C32-F141-44BD-B66A-3E28C173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754-7111-43CE-BE3C-FDC3D0F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5FE-7BF6-4E24-9026-2E6ACF14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A80-2AC7-4E1C-8DFA-BD48FB2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63C-B003-454A-A652-CC3076D0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417-5893-4217-AE5C-44DAA3698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021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2276640"/>
            <a:ext cx="47102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РАЗНОСТЬ КВАДРА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47640" y="476280"/>
            <a:ext cx="6438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ФОРМУЛЫ СОКРАЩЕННОГО УМНО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Разность квадратов равна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роизведению суммы одночленов на их ра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2852640"/>
            <a:ext cx="5543640" cy="82512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US" sz="4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-b</a:t>
            </a:r>
            <a:r>
              <a:rPr b="1" i="1" lang="en-US" sz="4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=(a+b)(a-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797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4221000"/>
            <a:ext cx="60501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(a+b)(a-b)= a</a:t>
            </a:r>
            <a:r>
              <a:rPr b="1" i="1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b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b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-b</a:t>
            </a:r>
            <a:r>
              <a:rPr b="1" i="1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= a</a:t>
            </a:r>
            <a:r>
              <a:rPr b="1" i="1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-b</a:t>
            </a:r>
            <a:r>
              <a:rPr b="1" i="1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-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лощадь квадрата со стороной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 рисунку получ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=S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+S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+2S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аким образом, получ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b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+(a-b)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+2(a-b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b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(a-b)(a-b+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-b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(a-b)(a+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5373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00000" y="3743280"/>
            <a:ext cx="1750680" cy="1431720"/>
            <a:chOff x="900000" y="3743280"/>
            <a:chExt cx="1750680" cy="1431720"/>
          </a:xfrm>
        </p:grpSpPr>
        <p:sp>
          <p:nvSpPr>
            <p:cNvPr id="52" name=""/>
            <p:cNvSpPr/>
            <p:nvPr/>
          </p:nvSpPr>
          <p:spPr>
            <a:xfrm rot="16200000">
              <a:off x="1243440" y="3399480"/>
              <a:ext cx="1063440" cy="1750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97840" y="4806720"/>
              <a:ext cx="59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00000" y="1773360"/>
            <a:ext cx="1750680" cy="1969560"/>
            <a:chOff x="900000" y="1773360"/>
            <a:chExt cx="1750680" cy="1969560"/>
          </a:xfrm>
        </p:grpSpPr>
        <p:sp>
          <p:nvSpPr>
            <p:cNvPr id="55" name=""/>
            <p:cNvSpPr/>
            <p:nvPr/>
          </p:nvSpPr>
          <p:spPr>
            <a:xfrm>
              <a:off x="900000" y="2026800"/>
              <a:ext cx="1750680" cy="1716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4400" y="1773360"/>
              <a:ext cx="89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400" y="2593800"/>
              <a:ext cx="823320" cy="405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651040" y="3743280"/>
            <a:ext cx="2064960" cy="1431720"/>
            <a:chOff x="2651040" y="3743280"/>
            <a:chExt cx="2064960" cy="1431720"/>
          </a:xfrm>
        </p:grpSpPr>
        <p:sp>
          <p:nvSpPr>
            <p:cNvPr id="59" name=""/>
            <p:cNvSpPr/>
            <p:nvPr/>
          </p:nvSpPr>
          <p:spPr>
            <a:xfrm>
              <a:off x="2651040" y="3743280"/>
              <a:ext cx="1168200" cy="1063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69000" y="3924360"/>
              <a:ext cx="74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21760" y="4806720"/>
              <a:ext cx="11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95920" y="4109760"/>
              <a:ext cx="598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651040" y="1773360"/>
            <a:ext cx="1766520" cy="1969560"/>
            <a:chOff x="2651040" y="1773360"/>
            <a:chExt cx="1766520" cy="1969560"/>
          </a:xfrm>
        </p:grpSpPr>
        <p:sp>
          <p:nvSpPr>
            <p:cNvPr id="64" name=""/>
            <p:cNvSpPr/>
            <p:nvPr/>
          </p:nvSpPr>
          <p:spPr>
            <a:xfrm>
              <a:off x="2651040" y="2026800"/>
              <a:ext cx="1168200" cy="1716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45800" y="1773360"/>
              <a:ext cx="11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43160" y="2657880"/>
              <a:ext cx="3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00160" y="2593800"/>
              <a:ext cx="43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42920" y="549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33"/>
                </a:solidFill>
                <a:uFillTx/>
                <a:latin typeface="Arial"/>
              </a:rPr>
              <a:t>Доказатель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9280" y="2060640"/>
            <a:ext cx="720360" cy="2736720"/>
            <a:chOff x="179280" y="2060640"/>
            <a:chExt cx="720360" cy="2736720"/>
          </a:xfrm>
        </p:grpSpPr>
        <p:sp>
          <p:nvSpPr>
            <p:cNvPr id="70" name=""/>
            <p:cNvSpPr/>
            <p:nvPr/>
          </p:nvSpPr>
          <p:spPr>
            <a:xfrm>
              <a:off x="179280" y="314136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9280" y="2060640"/>
              <a:ext cx="180360" cy="2736720"/>
            </a:xfrm>
            <a:custGeom>
              <a:avLst/>
              <a:gdLst>
                <a:gd name="textAreaLeft" fmla="*/ 115200 w 180360"/>
                <a:gd name="textAreaRight" fmla="*/ 180720 w 18036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0800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94036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692280"/>
            <a:ext cx="698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ставить в виде многочл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x+4)(x-4)=x2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.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3-m)(3+m)=9-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3. (8+y)(y-8)=y2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ложить на множ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2-25=(с-5)(с+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81-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p2=(9+p)(9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3. 0,36-y2=(0,6-y)(0,6+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1268280"/>
            <a:ext cx="338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x+4)(3x-4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2-5n)(5n+2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7с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4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)(4x-7c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1p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16a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-36b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49a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1125360"/>
            <a:ext cx="3095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9x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16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4-25n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49c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16x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9p+4a)(9p-4a)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5-6b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)(5+6b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)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0,7a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1)(0,7a</a:t>
            </a:r>
            <a:r>
              <a:rPr b="1" i="1" lang="en-US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+1)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76280"/>
            <a:ext cx="583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4000" y="333360"/>
            <a:ext cx="47102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Решаем самостоятель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1916280"/>
            <a:ext cx="712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9</a:t>
            </a:r>
            <a:r>
              <a:rPr b="1" lang="ru-RU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-28</a:t>
            </a:r>
            <a:r>
              <a:rPr b="1" lang="ru-RU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=(29-28)(29+28)=1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57=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73</a:t>
            </a:r>
            <a:r>
              <a:rPr b="1" lang="ru-RU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-63</a:t>
            </a:r>
            <a:r>
              <a:rPr b="1" lang="ru-RU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=(73+63)(73-63)=136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10=1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133</a:t>
            </a:r>
            <a:r>
              <a:rPr b="1" lang="ru-RU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-134</a:t>
            </a:r>
            <a:r>
              <a:rPr b="1" lang="ru-RU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=(133-134)(133+134)= -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651640" y="566748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43280" y="549360"/>
            <a:ext cx="3630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Быстрый сч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7:10:33Z</dcterms:created>
  <dc:creator>тдк</dc:creator>
  <dc:description/>
  <dc:language>en-US</dc:language>
  <cp:lastModifiedBy>Tamara</cp:lastModifiedBy>
  <dcterms:modified xsi:type="dcterms:W3CDTF">2010-11-02T15:48:21Z</dcterms:modified>
  <cp:revision>24</cp:revision>
  <dc:subject/>
  <dc:title>Слайд 1</dc:title>
</cp:coreProperties>
</file>