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3B9-8A60-4855-AA8F-E4FA1E48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D59-4876-4D12-A7CD-9739BED5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385-4955-44C5-9583-58F5BF53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256-9A91-420A-8457-61FC71BD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7DB5-4630-4DFF-B299-75DED1E0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F17D-F6C7-4F70-8AF5-32E6FB65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7A05-F012-4F32-8F83-FD050FCC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2F64-C450-4B54-969C-B88D964E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D631-9AB5-488D-BB31-5DD42D36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AC9C-8EE5-40F2-93EE-611374F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26CB-4E58-4884-9AA9-C4E1C3C9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4E1-1B87-40FC-857B-30CA2856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E767-61B9-4817-8806-6FA0EB0F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52DA-4F43-4293-9269-BF57128F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ADBB-5E33-49C4-BC59-07F6E67B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F4EF-CC25-4609-84BB-5309C4D1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2824-7941-4AD1-B2DD-61792F8A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3A74-BD4E-40E3-B73D-B32E3939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5838-ED76-48AB-BD2A-0A080ECF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D2D9-1BB2-4992-B830-E53B0594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6C60-7304-4779-9CB4-E251D777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31D2-78F0-494F-B2EB-AC292849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85F-6790-4FC9-AB10-AD477392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FD8B-422C-4E4A-9CC4-0B636ADC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CE53A-9288-41E8-8051-DD93E75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D43A-D38A-429B-B861-DBFF24C2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09DA-3841-4ECD-9382-78195E8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EC43E-0F4C-4154-8CC2-4D8E2115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4D2E-0AC8-4FC2-B0C5-A1A88B67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6351-B2CB-4B89-BAFF-E15E7936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FED4A-1020-47B7-A9A2-FED6CEDE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D98F0-08F7-465C-9676-B195D5F8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5FB85-FA51-416D-877E-D155A969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B9F-0AC8-42AF-812B-97642322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D41A-C93F-47DD-BCC9-25B0447B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843A-99C0-4D6B-85F1-4ECBC3D5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431A-1A4A-4FEC-B5EF-634FB1C9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76D0-435A-463A-9620-64A98AF7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0D24E-4E05-4308-A357-FB06F72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A35D-C980-47CB-B8D0-7577498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C153-47F3-4A7D-B301-2EAD106A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3B82-E59A-4377-89F9-101B5FAD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0D54-2A24-4425-A3EA-C09DB683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B34-884B-467A-B88D-1C3DBDE7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34E-C03B-4508-9703-30F29D46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9AF-CA50-43DD-9CC4-076F834F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005-21F9-4EA4-9C50-87B8F8D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DB8-F438-4D73-9B5C-C3B1A55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79ffd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7301-81AC-403A-9AB4-EAEC2D3811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79DB-DCCF-4F59-8AC4-B416D7ED5B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D6A3-5ACE-472C-A952-BAA48BB1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04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B236-716F-4AB1-8462-BA1B6F713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7"/>
            </a:gs>
            <a:gs pos="50000">
              <a:srgbClr val="ffffff"/>
            </a:gs>
            <a:gs pos="100000">
              <a:srgbClr val="ffffa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700360" y="2133720"/>
            <a:ext cx="4321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КЛАСС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59640" y="692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67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268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67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90792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67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85080" y="155736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67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72360" y="105264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67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72360" y="522936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67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724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67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333360"/>
            <a:ext cx="8713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наименьшее общее кра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ел 168, 231,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349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9240   б) 231 в)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500280"/>
            <a:ext cx="8713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наибольший общий де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ел 168, 231,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5157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60   б) 3 в) 9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476280"/>
            <a:ext cx="8713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нечетных чисел наход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жду 10 и 3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220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11   б) 13 в)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5805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1,2,3    б) 3,4,5    в) 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0920" y="3500280"/>
            <a:ext cx="8713800" cy="2089440"/>
            <a:chOff x="250920" y="3500280"/>
            <a:chExt cx="8713800" cy="2089440"/>
          </a:xfrm>
        </p:grpSpPr>
        <p:sp>
          <p:nvSpPr>
            <p:cNvPr id="201" name=""/>
            <p:cNvSpPr/>
            <p:nvPr/>
          </p:nvSpPr>
          <p:spPr>
            <a:xfrm>
              <a:off x="250920" y="3500280"/>
              <a:ext cx="871380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Укажите несократимые дроб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187280" y="4365720"/>
              <a:ext cx="7324920" cy="1224000"/>
              <a:chOff x="1187280" y="4365720"/>
              <a:chExt cx="7324920" cy="1224000"/>
            </a:xfrm>
          </p:grpSpPr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7885080" y="4437000"/>
                    <a:ext cx="627120" cy="10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04" name=""/>
              <p:cNvGrpSpPr/>
              <p:nvPr/>
            </p:nvGrpSpPr>
            <p:grpSpPr>
              <a:xfrm>
                <a:off x="1187280" y="4365720"/>
                <a:ext cx="6481800" cy="1224000"/>
                <a:chOff x="1187280" y="4365720"/>
                <a:chExt cx="6481800" cy="12240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5" name=""/>
                    <p:cNvSpPr txBox="1"/>
                    <p:nvPr/>
                  </p:nvSpPr>
                  <p:spPr>
                    <a:xfrm>
                      <a:off x="1835280" y="4437000"/>
                      <a:ext cx="446040" cy="1150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6" name=""/>
                    <p:cNvSpPr txBox="1"/>
                    <p:nvPr/>
                  </p:nvSpPr>
                  <p:spPr>
                    <a:xfrm>
                      <a:off x="3276720" y="4437000"/>
                      <a:ext cx="631800" cy="1152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7" name=""/>
                    <p:cNvSpPr txBox="1"/>
                    <p:nvPr/>
                  </p:nvSpPr>
                  <p:spPr>
                    <a:xfrm>
                      <a:off x="4716360" y="4365720"/>
                      <a:ext cx="662040" cy="1079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5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8" name=""/>
                    <p:cNvSpPr txBox="1"/>
                    <p:nvPr/>
                  </p:nvSpPr>
                  <p:spPr>
                    <a:xfrm>
                      <a:off x="6300720" y="4508640"/>
                      <a:ext cx="584280" cy="1009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09" name=""/>
                <p:cNvSpPr/>
                <p:nvPr/>
              </p:nvSpPr>
              <p:spPr>
                <a:xfrm>
                  <a:off x="1187280" y="4653000"/>
                  <a:ext cx="50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484360" y="4653000"/>
                  <a:ext cx="50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2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40360" y="4653000"/>
                  <a:ext cx="504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3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651640" y="4724280"/>
                  <a:ext cx="504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4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164360" y="4653000"/>
                  <a:ext cx="504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5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476280"/>
            <a:ext cx="87138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16000" y="1773360"/>
                <a:ext cx="7047000" cy="21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116000" y="4437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16000" y="4437000"/>
            <a:ext cx="6377040" cy="1656000"/>
            <a:chOff x="1116000" y="4437000"/>
            <a:chExt cx="6377040" cy="1656000"/>
          </a:xfrm>
        </p:grpSpPr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116000" y="4508640"/>
                  <a:ext cx="1414440" cy="15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3708360" y="4437000"/>
                  <a:ext cx="14828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б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6012000" y="4508640"/>
                  <a:ext cx="1481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в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476280"/>
            <a:ext cx="8713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ую часть прямого угла сост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гол 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92360" y="1773360"/>
                <a:ext cx="8539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284720" y="1628640"/>
                <a:ext cx="9475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588000" y="1700280"/>
                <a:ext cx="908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971640" y="3141720"/>
            <a:ext cx="7597800" cy="2232000"/>
            <a:chOff x="971640" y="3141720"/>
            <a:chExt cx="7597800" cy="2232000"/>
          </a:xfrm>
        </p:grpSpPr>
        <p:sp>
          <p:nvSpPr>
            <p:cNvPr id="226" name=""/>
            <p:cNvSpPr/>
            <p:nvPr/>
          </p:nvSpPr>
          <p:spPr>
            <a:xfrm>
              <a:off x="1042920" y="3141720"/>
              <a:ext cx="752652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Укажите ложные равен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971640" y="4149720"/>
                  <a:ext cx="189396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3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3635280" y="4221000"/>
                  <a:ext cx="21924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87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6516720" y="4149720"/>
                  <a:ext cx="200664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7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0" name=""/>
          <p:cNvSpPr/>
          <p:nvPr/>
        </p:nvSpPr>
        <p:spPr>
          <a:xfrm>
            <a:off x="826920" y="54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1,2      б) 1,3      в)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50920" y="476280"/>
            <a:ext cx="8713800" cy="1584360"/>
            <a:chOff x="250920" y="476280"/>
            <a:chExt cx="8713800" cy="1584360"/>
          </a:xfrm>
        </p:grpSpPr>
        <p:sp>
          <p:nvSpPr>
            <p:cNvPr id="232" name=""/>
            <p:cNvSpPr/>
            <p:nvPr/>
          </p:nvSpPr>
          <p:spPr>
            <a:xfrm>
              <a:off x="250920" y="476280"/>
              <a:ext cx="871380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айдите     числа 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4356000" y="765000"/>
                  <a:ext cx="5032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"/>
          <p:cNvSpPr/>
          <p:nvPr/>
        </p:nvSpPr>
        <p:spPr>
          <a:xfrm>
            <a:off x="1187280" y="2133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18       б) 21        в)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71640" y="3284640"/>
            <a:ext cx="7345440" cy="2454480"/>
            <a:chOff x="971640" y="3284640"/>
            <a:chExt cx="7345440" cy="2454480"/>
          </a:xfrm>
        </p:grpSpPr>
        <p:grpSp>
          <p:nvGrpSpPr>
            <p:cNvPr id="236" name=""/>
            <p:cNvGrpSpPr/>
            <p:nvPr/>
          </p:nvGrpSpPr>
          <p:grpSpPr>
            <a:xfrm>
              <a:off x="1835280" y="3284640"/>
              <a:ext cx="5761080" cy="1425600"/>
              <a:chOff x="1835280" y="3284640"/>
              <a:chExt cx="5761080" cy="1425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835280" y="3284640"/>
                <a:ext cx="4321440" cy="90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№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Решите уравнение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6156720" y="3356280"/>
                    <a:ext cx="1439640" cy="13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х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39" name=""/>
            <p:cNvSpPr/>
            <p:nvPr/>
          </p:nvSpPr>
          <p:spPr>
            <a:xfrm>
              <a:off x="971640" y="5157720"/>
              <a:ext cx="73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) 18       б) 4        в) 7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35280" y="549360"/>
            <a:ext cx="496872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делите целую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948360" y="476280"/>
                <a:ext cx="73980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476360" y="1773360"/>
                <a:ext cx="12621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635280" y="1844640"/>
                <a:ext cx="1262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156360" y="1844640"/>
                <a:ext cx="1298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826920" y="3284640"/>
            <a:ext cx="8028000" cy="2886480"/>
            <a:chOff x="826920" y="3284640"/>
            <a:chExt cx="8028000" cy="2886480"/>
          </a:xfrm>
        </p:grpSpPr>
        <p:sp>
          <p:nvSpPr>
            <p:cNvPr id="246" name=""/>
            <p:cNvSpPr/>
            <p:nvPr/>
          </p:nvSpPr>
          <p:spPr>
            <a:xfrm>
              <a:off x="826920" y="3284640"/>
              <a:ext cx="8028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36000" anchor="t">
              <a:spAutoFit/>
            </a:bodyPr>
            <a:p>
              <a:pPr algn="ctr"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сположите дроби в порядке возрастан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1908000" y="4221000"/>
                  <a:ext cx="77976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3924360" y="4221000"/>
                  <a:ext cx="85392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5796000" y="4149720"/>
                  <a:ext cx="85392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0" name=""/>
            <p:cNvSpPr/>
            <p:nvPr/>
          </p:nvSpPr>
          <p:spPr>
            <a:xfrm>
              <a:off x="971640" y="5589720"/>
              <a:ext cx="73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) 1,2,3       б) 3,2,1       в) 3,1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4360" y="549360"/>
            <a:ext cx="802800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положите дроби в порядке убы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56000" y="1844640"/>
                <a:ext cx="779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995640" y="1844640"/>
                <a:ext cx="8542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796000" y="1844640"/>
                <a:ext cx="8175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900000" y="3141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1,2,3       б) 1,3,2       в) 3,2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11280" y="4005360"/>
            <a:ext cx="8101080" cy="2310120"/>
            <a:chOff x="611280" y="4005360"/>
            <a:chExt cx="8101080" cy="2310120"/>
          </a:xfrm>
        </p:grpSpPr>
        <p:sp>
          <p:nvSpPr>
            <p:cNvPr id="257" name=""/>
            <p:cNvSpPr/>
            <p:nvPr/>
          </p:nvSpPr>
          <p:spPr>
            <a:xfrm>
              <a:off x="684360" y="4005360"/>
              <a:ext cx="802800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36000" anchor="t">
              <a:spAutoFit/>
            </a:bodyPr>
            <a:p>
              <a:pPr algn="ctr"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 какой угол повернется минутная стрел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за 11  минут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1280" y="5734080"/>
              <a:ext cx="73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) 6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 б) 66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в) 55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ffdc"/>
            </a:gs>
            <a:gs pos="50000">
              <a:srgbClr val="ffffff"/>
            </a:gs>
            <a:gs pos="100000">
              <a:srgbClr val="79ffd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9640" y="404640"/>
            <a:ext cx="802800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йдите 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651640" y="333360"/>
                <a:ext cx="184464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606680" y="1773360"/>
                <a:ext cx="10015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64000" y="1773360"/>
                <a:ext cx="1260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651640" y="1844640"/>
                <a:ext cx="1001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971640" y="3357720"/>
            <a:ext cx="7345440" cy="2308320"/>
            <a:chOff x="971640" y="3357720"/>
            <a:chExt cx="7345440" cy="2308320"/>
          </a:xfrm>
        </p:grpSpPr>
        <p:sp>
          <p:nvSpPr>
            <p:cNvPr id="265" name=""/>
            <p:cNvSpPr/>
            <p:nvPr/>
          </p:nvSpPr>
          <p:spPr>
            <a:xfrm>
              <a:off x="1332000" y="3357720"/>
              <a:ext cx="676908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36000" anchor="t">
              <a:spAutoFit/>
            </a:bodyPr>
            <a:p>
              <a:pPr algn="ctr"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За 5  тетрадей заплатили 65 рублей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колько стоят 12 таких тетрадей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1640" y="5084640"/>
              <a:ext cx="73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) 169       б) 150        в) 15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3:57:09Z</dcterms:created>
  <dc:creator>krasTD</dc:creator>
  <dc:description/>
  <dc:language>en-US</dc:language>
  <cp:lastModifiedBy>Sergey Krasovsky</cp:lastModifiedBy>
  <dcterms:modified xsi:type="dcterms:W3CDTF">2006-09-24T06:19:32Z</dcterms:modified>
  <cp:revision>14</cp:revision>
  <dc:subject/>
  <dc:title>Слайд 1</dc:title>
</cp:coreProperties>
</file>