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3F67-B647-49DE-AD7B-FED00F13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FD62-4350-4474-857C-FA73D651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46E3-F85A-4D3A-9886-8083E4B1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70C2-94E2-4F5F-A3F1-B66AF97C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5F4A-2A7B-4AC9-B8DA-25DBB6A6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9EED-5C39-47C7-8483-8067A452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53F0-3530-4307-8C2C-7C62FDB2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BB5C-07B7-4A8E-A17A-433F3B58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36CF-E134-43EC-BF97-972E4753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F7DF-4C87-44B5-8096-7AE4A110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7B18-2F98-45EA-947C-882C7D0C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7A9A-0158-4D7D-9981-C3F24125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AF51-4FD8-4273-BDFF-310FA9E2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B397-6FC1-48DB-9B5A-7CB01098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2816-C33F-4741-BD78-DA4359A5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7BFA-903A-4B5A-9D58-014015F4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51B6-B69D-4D73-922F-C4B8EEF9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AD9C-E036-463E-B363-E2753EB1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D3E5-95D0-4228-A297-9F8F9A0A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C717-5183-4674-B22D-F85635E2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06AC-FBEA-4959-ADF7-5850F838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339D-9FAA-49F3-9E5F-FF81A5ED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4B3F-1547-4862-8FCF-88737EF8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A0B6-F029-4AE2-8851-E669878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0027-04F1-48B7-9F32-F1E94AE298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51D6-4733-4346-AC7D-D7C262AA8D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ТЕМАТИКА 5 КЛАСС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десятичные дроб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75"/>
            </a:gs>
            <a:gs pos="50000">
              <a:srgbClr val="ffffff"/>
            </a:gs>
            <a:gs pos="100000">
              <a:srgbClr val="ffe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627280" y="981000"/>
            <a:ext cx="36734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ЧИСЛИТЕ   УСТНО: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989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1,5 – 0,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141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5 – 0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292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2 – 1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1700280"/>
            <a:ext cx="0" cy="3384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191628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) 0,06 +0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314172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) 4,5 – 0,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44370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) 0,04 + 0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5516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) 7,9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75"/>
            </a:gs>
            <a:gs pos="50000">
              <a:srgbClr val="ffffff"/>
            </a:gs>
            <a:gs pos="100000">
              <a:srgbClr val="ffe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340000" y="981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ЧИСЛИТЕ   УСТНО: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27664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) 0,28 + 0,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350028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) 0,09 – 0,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797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) 0,04 + 0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2276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) 0,45 + 0,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2276640"/>
            <a:ext cx="0" cy="3384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357336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) 6,8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4724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) 0,06 + 0,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580536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) 4,6 + 0,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75"/>
            </a:gs>
            <a:gs pos="50000">
              <a:srgbClr val="ffffff"/>
            </a:gs>
            <a:gs pos="100000">
              <a:srgbClr val="ffe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4360" y="692280"/>
            <a:ext cx="8064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cc3300"/>
                </a:solidFill>
                <a:latin typeface="Arial"/>
              </a:rPr>
              <a:t>ИЗ ЧИСЛА В РАМКЕ ВЫЧТИ </a:t>
            </a:r>
            <a:endParaRPr b="1" lang="en-US" sz="3200" spc="1" strike="noStrike">
              <a:ln w="0">
                <a:noFill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cc3300"/>
                </a:solidFill>
                <a:latin typeface="Arial"/>
              </a:rPr>
              <a:t>КАЖДОЕ ЧИСЛО В СТОЛБЦЕ:</a:t>
            </a:r>
            <a:endParaRPr b="1" lang="en-US" sz="3200" spc="1" strike="noStrike">
              <a:ln w="0">
                <a:noFill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2492280"/>
            <a:ext cx="1152360" cy="825120"/>
          </a:xfrm>
          <a:prstGeom prst="rect">
            <a:avLst/>
          </a:prstGeom>
          <a:noFill/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860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0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4724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0,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66100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0,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227664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0,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3068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0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386064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0,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72428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0,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076640"/>
            <a:ext cx="0" cy="244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2205000"/>
            <a:ext cx="0" cy="4248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5661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0,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2421000"/>
            <a:ext cx="1152720" cy="825120"/>
          </a:xfrm>
          <a:prstGeom prst="rect">
            <a:avLst/>
          </a:prstGeom>
          <a:noFill/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2276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1,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6720" y="386064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2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3080" y="3789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0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486900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0,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57340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4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4797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4,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5661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1,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77080" y="4005360"/>
            <a:ext cx="0" cy="251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3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deb"/>
            </a:gs>
            <a:gs pos="50000">
              <a:srgbClr val="ffffff"/>
            </a:gs>
            <a:gs pos="100000">
              <a:srgbClr val="ffbde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340000" y="69228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ЧИСЛИТЕ   УСТНО: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700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0,2 Х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997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0,7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14972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4 Х 0,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5300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) 1,3 Х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1700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) 0,6 Х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2924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) 0,2 Х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4076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) 0,9 Х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6720" y="5300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) 2,1 Х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1773360"/>
            <a:ext cx="0" cy="4392360"/>
          </a:xfrm>
          <a:prstGeom prst="line">
            <a:avLst/>
          </a:prstGeom>
          <a:ln w="88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40000" y="69228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ffcc00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ЧИСЛИТЕ   УСТНО: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50000">
                    <a:srgbClr val="ffcc00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17002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0,4 Х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2997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2,7 Х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41497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0,44 Х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530064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) 10 Х 0,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170028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) 0,6 Х 0,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9242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) 0,4 Х 0,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40766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) 1,8 Х 0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53737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) 0,05 Х 0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1773360"/>
            <a:ext cx="0" cy="4392360"/>
          </a:xfrm>
          <a:prstGeom prst="line">
            <a:avLst/>
          </a:prstGeom>
          <a:ln w="88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f4"/>
            </a:gs>
            <a:gs pos="50000">
              <a:srgbClr val="ffffff"/>
            </a:gs>
            <a:gs pos="100000">
              <a:srgbClr val="ffddf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4360" y="692280"/>
            <a:ext cx="8064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cc3300"/>
                </a:solidFill>
                <a:latin typeface="Arial"/>
              </a:rPr>
              <a:t>ЧИСЛО В РАМКЕ УМНОЖЬ НА </a:t>
            </a:r>
            <a:endParaRPr b="1" lang="en-US" sz="3200" spc="1" strike="noStrike">
              <a:ln w="0">
                <a:noFill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cc3300"/>
                </a:solidFill>
                <a:latin typeface="Arial"/>
              </a:rPr>
              <a:t>КАЖДОЕ ЧИСЛО В СТОЛБЦЕ:</a:t>
            </a:r>
            <a:endParaRPr b="1" lang="en-US" sz="3200" spc="1" strike="noStrike">
              <a:ln w="0">
                <a:noFill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2492280"/>
            <a:ext cx="1152360" cy="825120"/>
          </a:xfrm>
          <a:prstGeom prst="rect">
            <a:avLst/>
          </a:prstGeom>
          <a:noFill/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860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4724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,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566100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2276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2997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3860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,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4724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,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4076640"/>
            <a:ext cx="0" cy="2376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205000"/>
            <a:ext cx="0" cy="4176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5661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2421000"/>
            <a:ext cx="1152720" cy="825120"/>
          </a:xfrm>
          <a:prstGeom prst="rect">
            <a:avLst/>
          </a:prstGeom>
          <a:noFill/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08720" y="21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386064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37893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72428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57340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93080" y="4797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5661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,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4005360"/>
            <a:ext cx="0" cy="2376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08720" y="292428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e0ff"/>
            </a:gs>
            <a:gs pos="50000">
              <a:srgbClr val="ffffff"/>
            </a:gs>
            <a:gs pos="100000">
              <a:srgbClr val="c1e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4360" y="692280"/>
            <a:ext cx="8064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cc3300"/>
                </a:solidFill>
                <a:latin typeface="Arial"/>
              </a:rPr>
              <a:t>ЧИСЛО В РАМКЕ УМНОЖЬ НА </a:t>
            </a:r>
            <a:endParaRPr b="1" lang="en-US" sz="3200" spc="1" strike="noStrike">
              <a:ln w="0">
                <a:noFill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cc3300"/>
                </a:solidFill>
                <a:latin typeface="Arial"/>
              </a:rPr>
              <a:t>КАЖДОЕ ЧИСЛО В СТОЛБЦЕ:</a:t>
            </a:r>
            <a:endParaRPr b="1" lang="en-US" sz="3200" spc="1" strike="noStrike">
              <a:ln w="0">
                <a:noFill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2000" y="2492280"/>
            <a:ext cx="1152360" cy="825120"/>
          </a:xfrm>
          <a:prstGeom prst="rect">
            <a:avLst/>
          </a:prstGeom>
          <a:noFill/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3860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4724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566100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2276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3280" y="2997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6360" y="3860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4724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4076640"/>
            <a:ext cx="0" cy="2376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6720" y="2205000"/>
            <a:ext cx="0" cy="4176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5661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2421000"/>
            <a:ext cx="1584360" cy="825120"/>
          </a:xfrm>
          <a:prstGeom prst="rect">
            <a:avLst/>
          </a:prstGeom>
          <a:noFill/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1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386064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,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37893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,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92720" y="472428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76720" y="57340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797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93080" y="5661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77080" y="4005360"/>
            <a:ext cx="0" cy="2376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08720" y="292428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332000" y="620640"/>
            <a:ext cx="662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80"/>
                </a:solidFill>
                <a:latin typeface="Arial"/>
              </a:rPr>
              <a:t>какое   число   получится   </a:t>
            </a:r>
            <a:endParaRPr b="1" lang="en-US" sz="1800" spc="1" strike="noStrike">
              <a:ln w="0">
                <a:noFill/>
              </a:ln>
              <a:solidFill>
                <a:srgbClr val="0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80"/>
                </a:solidFill>
                <a:latin typeface="Arial"/>
              </a:rPr>
              <a:t>в   конце   цепочки?</a:t>
            </a:r>
            <a:endParaRPr b="1" lang="en-US" sz="1800" spc="1" strike="noStrike">
              <a:ln w="0">
                <a:noFill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349360"/>
            <a:ext cx="1440000" cy="136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2276640"/>
            <a:ext cx="144000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7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95640" y="2997360"/>
            <a:ext cx="1439640" cy="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213372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4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19640" y="2997360"/>
            <a:ext cx="1584360" cy="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2133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6,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2276640"/>
            <a:ext cx="1440000" cy="13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4508640"/>
            <a:ext cx="1440000" cy="13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278a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4508640"/>
            <a:ext cx="1440000" cy="13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4508640"/>
            <a:ext cx="144000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292360" y="5229360"/>
            <a:ext cx="1584360" cy="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195280" y="5157720"/>
            <a:ext cx="1368360" cy="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7640" y="3645000"/>
            <a:ext cx="0" cy="64764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3716280"/>
            <a:ext cx="10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407664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0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149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7:08:29Z</dcterms:created>
  <dc:creator>Krasovskya</dc:creator>
  <dc:description/>
  <dc:language>en-US</dc:language>
  <cp:lastModifiedBy>Tamara</cp:lastModifiedBy>
  <dcterms:modified xsi:type="dcterms:W3CDTF">2010-10-22T14:00:46Z</dcterms:modified>
  <cp:revision>24</cp:revision>
  <dc:subject/>
  <dc:title>МАТЕМАТИКА 5 КЛАСС</dc:title>
</cp:coreProperties>
</file>