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7C1A-5CD1-4C8B-80B4-3767A432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25E3-2A0F-48ED-B7E7-FB238AF1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B0D3-24CC-4722-A751-79B99A59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8012-B6A7-47DD-9329-607CF9AE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FDC1-EB11-412D-99BE-2E6540A2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21D-31ED-4D2C-B364-A32153E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B50A-CCE1-4B02-853A-931887B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9741-AD72-46E9-A933-4A5E666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364-9BD0-46A8-9F40-709D814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75A9-A66D-4551-A250-0992C7B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C38-6A95-4645-AD2C-608918F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6D9C-1B5B-43AA-9C26-E46B8CF4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401-5434-4A98-B81D-706EDDC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7D98-4A7B-4557-A523-8420A2F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4EA7-72C0-4893-BBAD-759F6128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CEEC-187B-487E-B10C-CC6AAC54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119-0B7D-49AC-8C65-4B2F5CF1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50AC-4F67-4515-9923-A2CC005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F492-38FF-47D2-9D79-35F6CFF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4C54-A491-496A-9D01-C49F8CE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2533-ADE1-4262-9551-D944C71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4C0A-2491-42C5-B3EC-043A13D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2899-534D-486E-81CD-1AFED6E3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050C-8402-431A-AFE7-D973AE5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BD03-B9E6-4B5F-BC43-7A35387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EA91-06A0-4E6C-BCB1-146A918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16DA-112B-4AC1-B1E4-E14DE384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3B90-8E88-42EF-9F2D-0DDBB899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94FE-F644-434C-9C72-717CD4C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6103-D048-4864-A3E8-CA171301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573E-CC00-4863-93DF-404ED86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4D56-A397-4E35-9F3D-7FE4DAF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CBD9-0834-437A-A710-47E6AC96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B0CE-B421-463A-96C4-91F282B5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7927-CAF0-4D02-BB4C-5721823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4FC2-985E-4B77-8451-6CF9853F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208C-2383-4C76-A6A0-3B770653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C62C-4215-410A-8948-DA22E4D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E12D-B656-4EBD-A918-E849665D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CA2F-1A80-411C-A517-51D90B2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13FF-255C-4AB0-8805-AD99D43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F26F6-0FA7-464F-849A-025E9C7A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E905-19A4-4DF6-853C-C2CF9DE9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8D34-DAD7-4C04-930F-955DB8A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32C6-00AE-4CED-863E-19DC9554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829D-9765-4FFA-BA3D-E0772D9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70F6-9C6B-4618-A325-1FA042F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76D7-E881-45FD-8BDC-B6AF86E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000000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3a9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a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3a9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3a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3a9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9A0-B4D6-4738-B62E-0C4A0D7AD081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000000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1BB-592E-4608-A6C7-54A851988E6F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53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53a9ff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3a9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3a9ff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27B-34F4-4809-9056-CED4C3EC2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0B8C-D120-4788-94F2-D9A8FED90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771640" y="1484280"/>
            <a:ext cx="5677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66">
                    <a:alpha val="9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ГЕБРАИЧЕСКИЕ  ДРОБИ</a:t>
            </a:r>
            <a:endParaRPr b="0" lang="en-US" sz="3200" spc="1" strike="noStrike">
              <a:ln w="0">
                <a:noFill/>
              </a:ln>
              <a:solidFill>
                <a:srgbClr val="993366">
                  <a:alpha val="9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5280" y="549360"/>
                <a:ext cx="84409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95280" y="4076640"/>
                <a:ext cx="83534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835280" y="40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0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70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Упростите выра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24000" y="2421000"/>
                <a:ext cx="8037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0920" y="4581360"/>
                <a:ext cx="856908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692360" y="692280"/>
                <a:ext cx="5616360" cy="18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619280" y="3933720"/>
                <a:ext cx="56167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32000" y="765000"/>
                <a:ext cx="64720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27080" y="3645000"/>
                <a:ext cx="708336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т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т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т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п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333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 СОКРАТИТЕ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1125360"/>
                <a:ext cx="784080" cy="15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71640" y="1125360"/>
                <a:ext cx="77976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24360" y="1125360"/>
                <a:ext cx="102384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19640" y="1125360"/>
                <a:ext cx="107172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24000" y="3284640"/>
            <a:ext cx="860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СПОЛЬЗУЯ ПРИЗНАКИ ДЕЛИМОСТИ НА 2,3 И 5 , ВЫЯСНИТЕ, СОКРАТИМЫ ЛИ ДРОБ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76360" y="4724280"/>
                <a:ext cx="13730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4797360"/>
                <a:ext cx="13730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443640" y="4797360"/>
                <a:ext cx="15699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620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. Приведите         к знаменателю, равн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32000" y="260280"/>
                <a:ext cx="61452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50920" y="2276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) 12;   б) 16х;   в) 24ав;  г)40с</a:t>
            </a:r>
            <a:r>
              <a:rPr b="1" lang="ru-RU" sz="3200" spc="-1" strike="noStrike" baseline="30000">
                <a:solidFill>
                  <a:srgbClr val="4d4d4d"/>
                </a:solidFill>
                <a:latin typeface="Arial"/>
              </a:rPr>
              <a:t>2;   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д) 200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4d4d4d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429000"/>
            <a:ext cx="84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4. Найдите такое значение х, при котором равенство верно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6280" y="4797360"/>
                <a:ext cx="25336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798640" y="4724280"/>
                <a:ext cx="289584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680080" y="4797360"/>
                <a:ext cx="325764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40464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5. Найдите допустимые значения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32000" y="1341360"/>
                <a:ext cx="8143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78040" y="1268280"/>
                <a:ext cx="15843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94400" y="1268280"/>
                <a:ext cx="18111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3573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6. Решите уравне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941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а) 3х – 2 = 4;         б) х</a:t>
            </a:r>
            <a:r>
              <a:rPr b="1" lang="en-US" sz="32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 – 16 = 0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3333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7. Найдите общий знаменатель дро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71520" y="1197000"/>
                <a:ext cx="12193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460600" y="1197000"/>
                <a:ext cx="15606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83528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476600" y="1197000"/>
                <a:ext cx="1949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284960" y="1125360"/>
                <a:ext cx="155916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588000" y="162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99880" y="3933720"/>
                <a:ext cx="1363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51040" y="3933720"/>
                <a:ext cx="1073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97964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403880" y="3933720"/>
                <a:ext cx="13651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635880" y="3933720"/>
                <a:ext cx="2195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8472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404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8. Сократите 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4280" y="1557360"/>
                <a:ext cx="315252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976640" y="1628640"/>
                <a:ext cx="322452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66840" y="4221000"/>
                <a:ext cx="394488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35280" y="40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134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134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2205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ыполните дей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9144000" cy="2979720"/>
        </p:xfrm>
        <a:graphic>
          <a:graphicData uri="http://schemas.openxmlformats.org/drawingml/2006/table">
            <a:tbl>
              <a:tblPr/>
              <a:tblGrid>
                <a:gridCol w="4859280"/>
                <a:gridCol w="4284720"/>
              </a:tblGrid>
              <a:tr h="29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50920" y="3500280"/>
                <a:ext cx="467028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003640" y="3429000"/>
                <a:ext cx="3908520" cy="19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9143640" cy="645300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4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0" y="620640"/>
                <a:ext cx="450072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643280" y="620640"/>
                <a:ext cx="45500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4000" y="3933720"/>
                <a:ext cx="402876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16360" y="3933720"/>
                <a:ext cx="391320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50920" y="476280"/>
                <a:ext cx="8569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8360" y="3860640"/>
                <a:ext cx="78865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58:54Z</dcterms:created>
  <dc:creator>Krasovskya</dc:creator>
  <dc:description/>
  <dc:language>en-US</dc:language>
  <cp:lastModifiedBy>Tamara Krasovskaya</cp:lastModifiedBy>
  <dcterms:modified xsi:type="dcterms:W3CDTF">2006-10-04T09:51:30Z</dcterms:modified>
  <cp:revision>31</cp:revision>
  <dc:subject/>
  <dc:title>Слайд 1</dc:title>
</cp:coreProperties>
</file>